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0511-3E9F-43DC-98E7-B8F05F02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45D-A1A7-461C-B975-4928E139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BB39-CC78-4A85-A370-B06B1B78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59A5-B46E-4BAB-A3F4-99115DE6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197-7BB6-4EFD-A8F5-51419396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260-EC1D-4E70-8956-5768705B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C65-BF9F-465B-A5C6-1F1A78B1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C22F-396B-4F6F-93C2-F7B50B61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23DD-1C32-4C23-B360-F30D9B2F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89D9-F077-4ED2-873B-688CD507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6874-B345-4EF4-9F02-86121775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BA91-3E75-40E7-924C-2517BE5C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04F5-E9F7-45B7-9BC3-907176EFE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بتقديم عرض سعر لبرنامج  إدارة الصالونات ( المعـتمد )  حيث  يعمل 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على تنفيذ جميع الإجراءات كالتالي :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العملاء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: إدخال بيانات العملاء - عناوين العملاء  - طلبات العملاء للإعمال - 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عملاء  -  المدفوع من الحساب - المتبقي لدى العميلة  من  قيمة 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مواعيد  : تسجيل المواعيد - حجز المواعيد - جدول مواعيد للموظفات - تنفيذ 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ل موظفة  حسب  موعدهـا  مع العميلة  -  معرفة مواعيد باقي الموظ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إعمال    : نوع العمل -  قيمة العمل -عدد الإعمال - مجموع الإعمال - حساب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ى تم تنفي</a:t>
            </a:r>
            <a:r>
              <a:rPr b="1" lang="ar-KW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ذها  -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منفذة  ال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ظفين : إدخال بيانات الموظفين - حساب النسب للموظفين أن وجد - مجموع 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وظفة  - مجموع إعمال كل موظفة بالصالون على حدة  -  مجموع 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ل الموظفين - صافى الإعمال - دليل التلفون - مستعرض الصور- تسريح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وقصات الشعر -  فورم الشعر -  ماكياج الوجه -  رسم العيون - رسم الشفا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ريمات العطور  - النقش والرسم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تصنيع :   طريقة خلط الصبغات - الكميات - الأصناف - اللون - ناتج التركيبة والتصن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صروفات : مصروفات نثرية  -  مصروفات مشتريات  -  سندات الصرف  -  فوات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اشير  -  قيمة الصرف  -  أنوع الص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خزن :   إنشاء مخزن -  تكويد المخزن  -  مخزن أول المدة  -  إضافة مخازن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تحويل بين المخازن -  مخزن آخر الم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أصناف  : بحث - صنف جديد - تركيب صنف جديد - تعديل صنف - إنشاء مخزن جديد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ارير المخازن والأفرع - مخزن أول المدة - تقارير مخازن آخر المدة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رد بسعر التكلفة - جرد باسم المخزن - تقدير قيمة المخزن آخرالمدة وذل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تقدير إجمالي قيمة المخزن المالية في آخر المد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علامات عن الأصناف وترتيبها حسب :  رقم الصنف - أسم الصنف - النوع  - الكود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رض شجرة الأصناف  وذلك لعرض شجرة الأصناف الخاصة بالصا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لام أصناف : إضافة صنف جديد : رقم الصنف -أسم الصنف - نوع الصنف - صن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ادي وهو صنف الذي تجري عليه عمليات الشراء والبيع  - صنف خدمي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هو الصنف خدمات  (  المستخدم  داخل الصالون 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تحديد الكميات والمخازن :- يتم إدخال الكميات الخاصة بالصنف في بداية المدة وتظهر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مباشرة تلك الكمية في الكمية بالوحدة -الشد أو الوحدة الكبرى-الكمية الك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مخازن  -  سعر تكلفة الوحدة -  سعر البيع  بار كود   يتم إدخال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خاص بالصنف -  تاريخ الصلاحية    يتم إدخال تاريخ صلاحية الصنف           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 التنبيه بنفاذ الكمية   يتم إدخال الحد الأدنى لكمية المنتج داخل المخاز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التي يعطي  البرنامج تقرير بها  في  حالة وصول كمية المنتج لهذا الحد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شتريات كالتالي :-  رقم الفاتورة   يتم إدخال رقم الفاتورة - التاريخ يتم إدخ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اريخ الفاتورة   -  أسم المورد  أو إضافة مورد جديد  - استخدام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إدراج الأصناف في الفاتورة يتم إدخال البار كود الخاص بالصنف والذي سب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دخاله عند إضافة الصنف للمخزن   -  أسم الصنف  لإدراج الأصناف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إما باستخدام البار كود أو كتابة أول حرف في  قائمة  الأصناف  ث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ختياره من  الأصناف  التي تبدأ بهذا الحرف ويتم  اختيار ة  ويتم  إدراجه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 الإجمالي يعرض إجمالي الفاتورة التي تم شراؤها - الخصم لإدرا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ي خصومات على الفاتورة إن وجد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مصروفات المشتريات :   لإدخال مصروفات الفاتورة من شحن وخلافه مع ملاحظة أن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سيتم إضافة  مصروفات المشتريات على سعر التكلفة الحقيقي للصنف - نظ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دفع   والمقصود دفع نقدي أو آجل أو عن طريق شيك  -  الإجمالي  -  المبل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مدفوع المبلغ الباقي  وهو ما تبقى من قيمة الفاتورة لم يدفع أو قيمة الفات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ملة إذا كانت  آجلة  -  تصدير الفاتورة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بيعات كالتالي :-  رقم الفاتورة   وهو يكون تسلسلي ويمكن تغييره  - التاريخ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سم العميل - أسم الصنف لإدراج الأصناف في الفاتورة إما باستخدام البار ك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كتابة أول حرف في  قائمة الأصناف ويتم اختيار الصنف الذي نريد إدراج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فاتورة  - الإجمالي - الخصم -  نظام الدفع والمقصود به هو إما دفع نقد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آجل أو عن طريق الكي نت أو  أن يجمع بين   الثلاث عمليات (  نقدي  - ك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نت  -  آجل  ) . المبلغ المدفوع   وهو المبلغ الذي تم دفعه من قيمة الفاتو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بلغ الباقي وهو ما تبقى من قيمة الفاتورة لم يدفع أو قيمة الفاتورة كاملة إذ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نت آجل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عمليات التي يمكن إجراؤها على العملاء : بحث وذلك للبحث عن عميل جديد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إضافة عميل جديد  -  تعديل  - لتعديل بيانات عميل معين ترتيب  -  لترتي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عملاء حسب  الاسم أو  حسب الرقم  -  مبيعات العملاء وذلك لعمل فات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بيعات للعميل - كشف حساب وذلك لمعرفة كشف الحساب الخاص بالعمي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تقرير سريع   وذلك لمعرفة مشتريات  العميل  خلال فترة معينة يتم تحد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شف أسماء المدينون   لمعرفة أسماء المدينين لدى الشرك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ردين  : العمليات التي يمكن إجراؤها على الموردين : بحث وذلك للبحث عن مورد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ديد في حالة إضافة مورد جديد - تعديل بيانات مورد معين - استلام أصنا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رير سريع وذلك لمعرفة تقرير سريع عن مورد معين - كشف أسماء الدائنون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ات متعددة : استعلام عن الأصناف التي  وصلت حد الطلب - استعلام عن الأصن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ي نفذت كمياتها استعلام عن الأصناف التي سوف تنتهي خلال الشهر-استع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عن إعمال عميل داخل الصالون خلال فترة زمنية حسب التحديد خلال مدة معين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ستعلامات عن مبيعات  موظفة معينة خلال فت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بيعات خلال فترة ( يوم - أسبوع - شهر- نصف سنة - سنة - عدة سنوات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شتريات  خلال فترة(يوم - أسبوع- شهر- نصف سنة - سنة - عدة سنوات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نظام الصلاحيات للمستخدمين  :   تحديد الصلاحيات لكل مستخدم  -  إضافة مستخدمين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حذف مستخدم  -  تغير كلمة المرور  -   تعديل وتغيير صلاحيات المستخدمين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ن قبل المسئول بأي وق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إضافة إلى البنود الفرعية المدرجة  بالبرنامج  والتقارير التفصيلية.  سهو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استخدام  وسرعة البحث  إمكانية التعديل والإضافة على  البرنامج م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مكانية عمل البرنامج على الشبكة  (  إمكانية عمل نسخة  احتياطية من قاع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يانات  يدوى  أو  تلقائي  بالإضافة إلى  استرجاع  قاعدة البيانات 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وث تلف آو عطل بالجهاز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1T00:06:58Z</dcterms:modified>
  <cp:revision>20</cp:revision>
  <dc:subject/>
  <dc:title>عرض تقديمي من PowerPoint</dc:title>
</cp:coreProperties>
</file>