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F6C3-5D1C-4648-A6B9-CAD352723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E537-9C05-4FA8-81D3-2DD362594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F660-6EEC-4BB2-9234-DEDAAFD8A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D6B1-1851-4B52-94D5-3A859F790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BED0-E0FC-4E27-8485-456A617B5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7863-9E64-42D1-840A-AD360BB0A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40B0-B4D7-42E1-B476-EF7534472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DA66-3733-4B7C-BE76-5AE612E4E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CDFF-96EF-463F-B116-E4579B156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F639-9480-4956-A9EF-6487E118D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D238-0838-410C-974B-CE4F50A65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AD1E-19AA-423E-BA37-CDC5368B7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16977-048B-4359-8098-677B5DED20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360936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d20000"/>
              </a:gs>
            </a:gsLst>
            <a:path path="rect">
              <a:fillToRect l="50000" t="50000" r="50000" b="50000"/>
            </a:path>
          </a:gradFill>
          <a:ln w="1047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                      اعزائى الموقرين نأسف على الازعاج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حرصا منا على المساهمة فى تطوير العمل والانجاز الدقيق والمصلحة المشتركة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نتشرف  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ultan normal"/>
              </a:rPr>
              <a:t>بتقديم عرض سعر لبرنامج  إدارة الصالونات ( المعـتمد )  حيث  يعمل البرنام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على تنفيذ جميع الإجراءات كالتالي :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العملاء   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: إدخال بيانات العملاء - عناوين العملاء  - طلبات العملاء للإعمال - حساب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العملاء  -  المدفوع من الحساب - المتبقي لدى العميلة  من  قيمة  الإعما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المواعيد  : تسجيل المواعيد - حجز المواعيد - جدول مواعيد للموظفات - تنفيذ مواعي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كل موظفة  حسب  موعدهـا  مع العميلة  -  معرفة مواعيد باقي الموظف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الإعمال    : نوع العمل -  قيمة العمل -عدد الإعمال - مجموع الإعمال - حساب الإعما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التى تم تنفي</a:t>
            </a:r>
            <a:r>
              <a:rPr b="1" lang="ar-KW" sz="2400" spc="-1" strike="noStrike">
                <a:solidFill>
                  <a:srgbClr val="ffffff"/>
                </a:solidFill>
                <a:latin typeface="Times New Roman"/>
                <a:cs typeface="Sultan normal"/>
              </a:rPr>
              <a:t>ذها  - 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ultan normal"/>
              </a:rPr>
              <a:t>منفذة  الإعمال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ultan normal"/>
              </a:rPr>
              <a:t>الموظفين : إدخال بيانات الموظفين - حساب النسب للموظفين أن وجد - مجموع إعما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الموظفة  - مجموع إعمال كل موظفة بالصالون على حدة  -  مجموع إعمال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كل الموظفين - صافى الإعمال - دليل التلفون - مستعرض الصور- تسريحات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وقصات الشعر -  فورم الشعر -  ماكياج الوجه -  رسم العيون - رسم الشفاه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الكريمات العطور  - النقش والرسم   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ultan normal"/>
              </a:rPr>
              <a:t>التصنيع :   طريقة خلط الصبغات - الكميات - الأصناف - اللون - ناتج التركيبة والتصن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ultan normal"/>
              </a:rPr>
              <a:t>المصروفات : مصروفات نثرية  -  مصروفات مشتريات  -  سندات الصرف  -  فواتي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الكاشير  -  قيمة الصرف  -  أنوع الصر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ultan normal"/>
              </a:rPr>
              <a:t>المخزن :   إنشاء مخزن -  تكويد المخزن  -  مخزن أول المدة  -  إضافة مخازن أخر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التحويل بين المخازن -  مخزن آخر المد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ultan normal"/>
              </a:rPr>
              <a:t>الأصناف  : بحث - صنف جديد - تركيب صنف جديد - تعديل صنف - إنشاء مخزن جديد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تقارير المخازن والأفرع - مخزن أول المدة - تقارير مخازن آخر المدة –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جرد بسعر التكلفة - جرد باسم المخزن - تقدير قيمة المخزن آخرالمدة وذلك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لتقدير إجمالي قيمة المخزن المالية في آخر المدة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استعلامات عن الأصناف وترتيبها حسب :  رقم الصنف - أسم الصنف - النوع  - الكود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عرض شجرة الأصناف  وذلك لعرض شجرة الأصناف الخاصة بالصالو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استلام أصناف : إضافة صنف جديد : رقم الصنف -أسم الصنف - نوع الصنف - صن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عادي وهو صنف الذي تجري عليه عمليات الشراء والبيع  - صنف خدمي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وهو الصنف خدمات  (  المستخدم  داخل الصالون  )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تحديد الكميات والمخازن :- يتم إدخال الكميات الخاصة بالصنف في بداية المدة وتظهر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مباشرة تلك الكمية في الكمية بالوحدة -الشد أو الوحدة الكبرى-الكمية الك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بالمخازن  -  سعر تكلفة الوحدة -  سعر البيع  بار كود   يتم إدخال البار كود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الخاص بالصنف -  تاريخ الصلاحية    يتم إدخال تاريخ صلاحية الصنف               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حد التنبيه بنفاذ الكمية   يتم إدخال الحد الأدنى لكمية المنتج داخل المخازن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والتي يعطي  البرنامج تقرير بها  في  حالة وصول كمية المنتج لهذا الحد 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ultan normal"/>
              </a:rPr>
              <a:t>فواتير المشتريات كالتالي :-  رقم الفاتورة   يتم إدخال رقم الفاتورة - التاريخ يتم إدخال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تاريخ الفاتورة   -  أسم المورد  أو إضافة مورد جديد  - استخدام البار كود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لإدراج الأصناف في الفاتورة يتم إدخال البار كود الخاص بالصنف والذي سب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إدخاله عند إضافة الصنف للمخزن   -  أسم الصنف  لإدراج الأصناف في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الفاتورة إما باستخدام البار كود أو كتابة أول حرف في  قائمة  الأصناف  ث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اختياره من  الأصناف  التي تبدأ بهذا الحرف ويتم  اختيار ة  ويتم  إدراجه ف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الفاتورة  الإجمالي يعرض إجمالي الفاتورة التي تم شراؤها - الخصم لإدراج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أي خصومات على الفاتورة إن وجد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مصروفات المشتريات :   لإدخال مصروفات الفاتورة من شحن وخلافه مع ملاحظة أنه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سيتم إضافة  مصروفات المشتريات على سعر التكلفة الحقيقي للصنف - نظا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الدفع   والمقصود دفع نقدي أو آجل أو عن طريق شيك  -  الإجمالي  -  المبلغ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المدفوع المبلغ الباقي  وهو ما تبقى من قيمة الفاتورة لم يدفع أو قيمة الفاتور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كاملة إذا كانت  آجلة  -  تصدير الفاتورة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ultan normal"/>
              </a:rPr>
              <a:t>فواتير المبيعات كالتالي :-  رقم الفاتورة   وهو يكون تسلسلي ويمكن تغييره  - التاريخ  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أسم العميل - أسم الصنف لإدراج الأصناف في الفاتورة إما باستخدام البار كو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أو كتابة أول حرف في  قائمة الأصناف ويتم اختيار الصنف الذي نريد إدراج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في الفاتورة  - الإجمالي - الخصم -  نظام الدفع والمقصود به هو إما دفع نقدي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أو آجل أو عن طريق الكي نت أو  أن يجمع بين   الثلاث عمليات (  نقدي  - ك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نت  -  آجل  ) . المبلغ المدفوع   وهو المبلغ الذي تم دفعه من قيمة الفاتورة 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المبلغ الباقي وهو ما تبقى من قيمة الفاتورة لم يدفع أو قيمة الفاتورة كاملة إذا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كانت آجلة  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0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ultan normal"/>
              </a:rPr>
              <a:t>العمليات التي يمكن إجراؤها على العملاء : بحث وذلك للبحث عن عميل جديد في حال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إضافة عميل جديد  -  تعديل  - لتعديل بيانات عميل معين ترتيب  -  لترتي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العملاء حسب  الاسم أو  حسب الرقم  -  مبيعات العملاء وذلك لعمل فاتور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مبيعات للعميل - كشف حساب وذلك لمعرفة كشف الحساب الخاص بالعمي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تقرير سريع   وذلك لمعرفة مشتريات  العميل  خلال فترة معينة يتم تحدده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كشف أسماء المدينون   لمعرفة أسماء المدينين لدى الشركة  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ultan normal"/>
              </a:rPr>
              <a:t>الموردين  : العمليات التي يمكن إجراؤها على الموردين : بحث وذلك للبحث عن مورد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جديد في حالة إضافة مورد جديد - تعديل بيانات مورد معين - استلام أصناف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تقرير سريع وذلك لمعرفة تقرير سريع عن مورد معين - كشف أسماء الدائنون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ultan normal"/>
              </a:rPr>
              <a:t>استعلامات متعددة : استعلام عن الأصناف التي  وصلت حد الطلب - استعلام عن الأصنا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التي نفذت كمياتها استعلام عن الأصناف التي سوف تنتهي خلال الشهر-استعلا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عن إعمال عميل داخل الصالون خلال فترة زمنية حسب التحديد خلال مدة معين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استعلامات عن مبيعات  موظفة معينة خلال فتر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ultan normal"/>
              </a:rPr>
              <a:t>استعلام عن المبيعات خلال فترة ( يوم - أسبوع - شهر- نصف سنة - سنة - عدة سنوات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ultan normal"/>
              </a:rPr>
              <a:t>استعلام عن المشتريات  خلال فترة(يوم - أسبوع- شهر- نصف سنة - سنة - عدة سنوات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ultan normal"/>
              </a:rPr>
              <a:t>نظام الصلاحيات للمستخدمين  :   تحديد الصلاحيات لكل مستخدم  -  إضافة مستخدمين –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حذف مستخدم  -  تغير كلمة المرور  -   تعديل وتغيير صلاحيات المستخدمين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من قبل المسئول بأي وقت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بالإضافة إلى البنود الفرعية المدرجة  بالبرنامج  والتقارير التفصيلية.  سهول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في الاستخدام  وسرعة البحث  إمكانية التعديل والإضافة على  البرنامج م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إمكانية عمل البرنامج على الشبكة  (  إمكانية عمل نسخة  احتياطية من قاعد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البيانات  يدوى  أو  تلقائي  بالإضافة إلى  استرجاع  قاعدة البيانات  في حال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حدوث تلف آو عطل بالجهاز   آو فقدان البيانات من البرنامج   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البرنامج  مصمم بلغة الفيجوال بيسك  وقاعدة  البيانات بلغة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SQL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كفالة  وتدريب على البرنامج  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0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كما يوجد شرح وافى على استخدام والتعامل مع نواف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البرنامج بالصوت والصور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راجين أن ينال عرضنا هذا قبولكم ، وأضعين تحت تصرفكم إمكانياتنا وخدماتنا الفنية ف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                           مجال تقنية المعلومات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                    مع تحيات إم إس للحلول المتكاملة والبرمجي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       احدى فروع مجموعة سلطان السالم ومحمود عبدالله التجارية  ذ.م.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  دولة الكويت – حولى – شارع تونس – مقابل بنك الكويت والشرق الاوس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           ت: 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009652647029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&amp;     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0096560247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Sultan normal"/>
              </a:rPr>
              <a:t>msn_200@hotmail.com</a:t>
            </a:r>
            <a:r>
              <a:rPr b="1" lang="en-US" sz="2400" spc="-1" strike="noStrike">
                <a:solidFill>
                  <a:srgbClr val="ffffff"/>
                </a:solidFill>
                <a:latin typeface="Sultan normal"/>
              </a:rPr>
              <a:t>   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Sultan normal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9T21:58:57Z</dcterms:created>
  <dc:creator> </dc:creator>
  <dc:description/>
  <dc:language>en-US</dc:language>
  <cp:lastModifiedBy> </cp:lastModifiedBy>
  <dcterms:modified xsi:type="dcterms:W3CDTF">2007-05-01T00:06:58Z</dcterms:modified>
  <cp:revision>20</cp:revision>
  <dc:subject/>
  <dc:title>عرض تقديمي من PowerPoint</dc:title>
</cp:coreProperties>
</file>